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CD3C-950C-4E19-BF6B-9FA612781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B6B1-EF1C-47ED-93F0-423BFFFF5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C7D-F83D-456B-9EFB-B4123C72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0DB-EFC7-4633-8CEB-AED6DD53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459-D2D7-4973-8F9C-020133DB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6E1-633F-49DE-BDCA-3F1C259E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350-2068-4522-B842-F90EB061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70B6-E344-4B73-BC82-B6E7A20E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EC1-E78C-4D17-A1FE-9B321F38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169-8780-4370-A152-1FA4D857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E28-BB3D-4EBD-B76B-B8395F5A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2EC-E60A-40E6-B6D2-1335319A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3EB-1399-418E-AD1B-EB9C01D4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1B1-B7BB-4B77-8AD2-74584D59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661C-4B66-4CAF-AC3A-3C1F65CC3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ent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attends one day per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ximately 15 hours /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 GIEP requirements for go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meet with similarly identified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display time management, communication and personal responsibility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interact with a professional &amp; experience the occupational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a “log”, complete evaluation es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area of interest (see next sl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for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tudent/parent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time of year including su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 of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 Job shad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sthesiology, Biology, Broadcast Journalism, Chiropractic, Community Service, Computer Technology, Cosmetology, Culinary Arts, Dance, Dentistry, Educational Gaming, Elementary Education, the Law, Meteorology, Music Education, Pharmacy, Photography, Veterin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hletic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ing, mathematical applications and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 (MS by inv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 club, afterschool meetings, outside of school compet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a announcement, fall 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United 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and represent a country in a role play debate of contemporary world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and guided research, written position papers, public speaking/debate, “diplomac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s (fall) &amp; MUN Conference (spring) held at Bloomsburg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-curricular 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announcements, late fall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ve problem solving com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K-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ember team, student developed           skit performance &amp; spontane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ong-term problem)               - (short term probl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ion held in early M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team by Nov./D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pplication, problem solving, and interpersonal skills within the context of building and programming “robo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o MindStorms® and Lego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 cl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fted Education &amp; Talent Development at B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Bruce Guenther, grades 11-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Todd Gunther, grade 9 -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m 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59 – 6400 x314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7e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39"/>
                </a:solidFill>
                <a:latin typeface="Times New Roman"/>
              </a:rPr>
              <a:t>bguenther@berwicksd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7e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39"/>
                </a:solidFill>
                <a:latin typeface="Times New Roman"/>
              </a:rPr>
              <a:t>tgunther@berwicksd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ww.bhsgifted.wikispace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Honors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, History, World Language, Math,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pendent Study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tor and teacher supported research in area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fills grad. project requirement for 2011 only.  2012  and on complete Electronic Portfol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1.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equest and written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GIEP or early 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Research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entor and teacher supported, independent research within the medical field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cl. Veterin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ptions for 1.01 or 1.06 al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ience teacher recommend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r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summer start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ru Septemb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fall sta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dvance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Placement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ge level academic rigor &amp; pacing in content areas and the opportunity for college cred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&amp;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US Governmen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Sciences – Chemistry, Physics; Latin, Spa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d to complete AP Exam (M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 1.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al Enroll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in college course taken during the HS day – on campus, on-line, distanc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in college credits, discounted tu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BHS credit, weighted by1.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21:30:46Z</dcterms:created>
  <dc:creator>Christine Guenther</dc:creator>
  <dc:description/>
  <dc:language>en-US</dc:language>
  <cp:lastModifiedBy>bguenther</cp:lastModifiedBy>
  <dcterms:modified xsi:type="dcterms:W3CDTF">2010-09-10T01:13:23Z</dcterms:modified>
  <cp:revision>41</cp:revision>
  <dc:subject/>
  <dc:title>Berwick Area High School</dc:title>
</cp:coreProperties>
</file>